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87FC3-EF39-428C-8516-CAD08C031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B0F4-FBC0-4F4E-B595-5BA35DDE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13998-BED7-45C3-9717-D9EC283A0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B0CA1-0CBD-4F6A-9EA0-B658C3A09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AE35-756E-414B-A51D-72EC8A9E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F7BE-80AC-41F3-9D59-BA1C4FF7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8B41E-D9D4-4536-9DF2-686B1C99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12A86-1561-4C31-BB29-AEE547F2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C852-78D8-4F2A-8C50-19E763C89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B52F-0044-4B13-BDEE-503E2EEA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1473-78E3-4325-B68E-0A4CF2AAD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9FB6B-485D-49D1-B3ED-CE2516F59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A968-BD58-44FA-ADBB-4D5AE270E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your Cry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Steph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scaled it on a scale of 1 to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not crying at all    10 hurting a l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d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ing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hpick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ing gum worked the best because if you want to chill the onion you are going have to chill it for a long time and I was wrong. The toothpicks and bread did nothing to stop you cr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5 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5 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m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Riff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chech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onions make us cry." </a:t>
            </a:r>
            <a:r>
              <a:rPr b="0" i="1" lang="en-US" sz="2400" spc="-1" strike="noStrike">
                <a:solidFill>
                  <a:srgbClr val="000000"/>
                </a:solidFill>
                <a:latin typeface="Arial"/>
              </a:rPr>
              <a:t>yahoo.anwsers</a:t>
            </a:r>
            <a:r>
              <a:rPr b="0" lang="en-US" sz="2400" spc="-1" strike="noStrike">
                <a:solidFill>
                  <a:srgbClr val="000000"/>
                </a:solidFill>
                <a:latin typeface="Arial"/>
              </a:rPr>
              <a:t>. Web. 16 June 2010. &lt;http://answers.yahoo.com/question/index?qid=1005110700006&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Onions Make You Cry?." </a:t>
            </a:r>
            <a:r>
              <a:rPr b="0" i="1" lang="en-US" sz="2400" spc="-1" strike="noStrike">
                <a:solidFill>
                  <a:srgbClr val="000000"/>
                </a:solidFill>
                <a:latin typeface="Arial"/>
              </a:rPr>
              <a:t>About.com</a:t>
            </a:r>
            <a:r>
              <a:rPr b="0" lang="en-US" sz="2400" spc="-1" strike="noStrike">
                <a:solidFill>
                  <a:srgbClr val="000000"/>
                </a:solidFill>
                <a:latin typeface="Arial"/>
              </a:rPr>
              <a:t>. Web. 16 Nov. 2010. &lt;http://chemistry.about.com/od/chemistryfaqs/f/onionscry.htm&g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Mental_floss Blog » Why Do Onions Make You Cry?" Web. 19 Jan. 2011. &lt;http://blogs.static.mentalfloss.com/blogs/archives/22202.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cry when you cut onions? Well if you do I have a solution. Now you don’t have to cry anymore when you are co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 when you are cutting on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ut an onion you break cells. You release amino acid sulforides which forms sulfuric acids. This produces propanethinied s-oxide it goes towards your eyes and reacts with the water in your eyes. You create tears to get rid of the irritated feeling. You can start crying just 30 seconds after you make the first c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at when you chill the onion you will not c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am testing</a:t>
            </a:r>
            <a:endParaRPr b="0" lang="en-US" sz="4400" spc="-1" strike="noStrike">
              <a:solidFill>
                <a:srgbClr val="000000"/>
              </a:solidFill>
              <a:latin typeface="Arial"/>
            </a:endParaRPr>
          </a:p>
        </p:txBody>
      </p:sp>
      <p:sp>
        <p:nvSpPr>
          <p:cNvPr id="52"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4 things to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g a piece of bread out of your mou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 2 toothpi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l the o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 mint g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thpi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z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teachers how not to cry while cutting an on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2 onions. (in halv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which method works b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how much my eyes hurt on a scale of 1 to 1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 ways not to cry when you cut an o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nt-  whether you cry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The amount of onion you c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5:28:26Z</dcterms:created>
  <dc:creator>USD376</dc:creator>
  <dc:description/>
  <dc:language>en-US</dc:language>
  <cp:lastModifiedBy>USD376</cp:lastModifiedBy>
  <dcterms:modified xsi:type="dcterms:W3CDTF">2011-02-16T14:57:17Z</dcterms:modified>
  <cp:revision>3</cp:revision>
  <dc:subject/>
  <dc:title>Stop your Crying</dc:title>
</cp:coreProperties>
</file>